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36F-697A-44E9-8F61-454D29C8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1CB-C6AC-414F-927C-09437AEE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67F-1F46-47F3-AF10-B45CAB22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BE8-3E62-493D-9193-7D44BFFE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6F3-8015-4A05-B63F-41E1B85D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244-591C-4DA9-B9A8-EC49018B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9B5-A26D-4AE2-ACC1-BCDCD88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E80-4238-416D-97CF-011AA4F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F79-F03D-4FE1-8D7B-505AF6AF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08F-74AB-4F6D-BD18-5DEA7F5A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A19-4B48-4C67-9590-2EAC7831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6C6-CB52-425E-8C64-1C5F9FD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D530-C6B0-4B4E-B8AD-E4EE49CC8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第三单元写作：抓住细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一）具体人物——抓特征 显个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肖像包括人物的容貌（面容长相，如五官等）、身材（高、矮、胖、瘦）、衣着（穿着打扮）和表情（喜、怒、哀、乐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体形象：步步追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像延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局部细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局部细写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我看见一个小姑娘，年龄不大，长得很瘦，穿得也很差。（试用 “细写公式”修改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步追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”到什么程度？⑵怎么个“瘦”法？⑶穿得怎么个“差”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像延伸、局部描写（略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细写公式”把句子改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看见一个小姑娘，只有八九岁光景，瘦瘦的苍白的脸，冻得发紫的嘴唇，竹枝似的手臂，竹竿一样的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头发很短，穿一身很破旧的衣裤，光脚穿一双草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二）抽象感情——动用感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害怕、高兴、惭愧、伤心等等情绪，都是看不到，摸不着的，这是抽象的。写抽象的文章，可从看、听、感、想、做五个方面，调动各种感觉器官，借助肖像、动作、神态、语言各个方面的描写，写准写活人、景、物的形、声、味、质、感等要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：《我的烦恼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妈常在晚上出门，我一个人待在家里，非常害怕。晚上一人在家，实在可怕，非常 非常的可怕。这种可怕是文章所写不出来的。啊！晚上看家，太可怕了，是世界上最可怕的事。可怕，可怕，真是可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时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眼睛看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耳朵听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心里感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脑里想到什么﹖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有没有采取什么行动﹖ （ 做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修改后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爸、妈上街去了，我一个人待在家里。当我看到行人从窗外走过的黑影（看）， 或是听到厨房里传来“砰砰”的声音（听），我便以为小偷来了，吓得说不出话来（感）。假如小偷来了，他会把我绑起来，用毛巾把我的嘴塞住，不让我喊叫，然后偷我家的钱，搬走我家的电视机（想）。我不敢捉小偷，所以跑进卧室里，锁起了房门 ，躲在被窝里（做），在被窝里，我一直祈祷：爸、妈，赶快回来吧（想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巧用修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比喻、拟人、夸张等修辞，可以增强语言的生动性，变抽象为具体，变无形为有形，变平淡质朴为文采斐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她微笑的时候，那黑得像黑樱桃的眼珠儿睁得圆圆的，闪出一种难以形容的愉快光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腰弯得几乎成为驼背，肥肥胖胖，可是举动却像一只大猫似的轻快而敏捷，并且柔软的也像这个可爱的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用修辞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你也带孩子，人家也带孩子，你带的孩子又脏又瘦，人家带的孩子又白又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修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也带孩子，人家也带孩子，你带的就跟才从垃圾堆捡出来似的，人家带的就像才剥壳的鸡蛋心子，又白又光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法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具体人物——抓特征，显个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抽象感情——动用感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巧用修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病文诊治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下面一段话改成具体描写的文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昨天英语考试，我几次想拿出来看，由于老师看的紧，都没有成功，最后还是被老师看见了，我觉得很不好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挥你的想象，调动各种感觉器官，可恰当地添加动作、表情、神态、语言、心理、场景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五、实战演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怕的英语考试开始了，平时上英语课挺潇洒我，一时慌了手脚，于是想起了救命稻草——英语课本。（想）但此时，严肃的老英的两只眼睛正像激光似地在教室内扫射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看）我的心怦怦直跳。（感）“哎，舍不得孩子，套不住狼！”（想）我一咬牙，慢慢地将英语课本从课桌里拖了出来（做）。“某某，干什么？”只听老英一声断喝，（听）我羞得差点钻到老鼠洞里去。（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4720" y="274320"/>
            <a:ext cx="72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火眼金睛辨身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他在大街上走着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的他慢慢地在大街上走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、戴着墨镜的他慢慢地在大街上走着，不时地左右观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、戴着墨镜的他慢慢地在大街上走着，贼眉鼠眼地向四周张望，目光始终瞄着行人的口袋和背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身穿黑衣服、戴着墨镜的他慢慢地在大街上走着，贼眉鼠眼地向四周张望，目光始终瞄着行人的口袋和背包。突然一阵警笛声使他身子一颤，立刻又恢复了常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89000"/>
            <a:ext cx="12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、导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试牛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下面这段叙述文字改写成生动的描写文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文课开始了，老师把批好的试卷发了下来。在拿到试卷之前，我很紧张，很害怕，就怕自己考砸了。试卷拿到手以后，我一看不及格，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很伤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心理）我不停地在心里念叨：“阿弥陀佛，上帝啊，保佑我吧！我再也不看电视，不打游戏机了。唉！都有怪我自己，老想着打游戏机，考试前一天还趁父母不在家偷看了一个小时的电视。老师啊，发发慈悲，手下留情，我以后上课一定好好听讲，千万别让我不及格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想象）我好象看见满试卷鲜红的叉组成一张巨大的网向我卷来，使我不得动弹，不能呼吸。我又仿佛看到了老师满脸的怒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仿佛听到了父母悲伤的叹息声和旁人的嘲笑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环境烘托）天阴沉沉的，不时刮来阵阵冷风。风刮到我身上，我就不由自主地打颤。教室里静悄悄的，只听见“沙沙”的发试卷的声音， “哗啦！”我的心随之猛跳了一下，一个同学不小心把书碰到了地下。同桌的试卷已发下来了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，看着同桌哭丧的脸，我不由得心里直打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（做）  试卷静静地反躺在桌上。我用有点颤抖的手去掀试卷，一个鲜红的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字映入我的眼帘，我的手一抖，试卷又合上了。我一咬牙，把手伸到试卷底下，用力一翻，随着“啪”的一声，我看到了我的分数─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可怜的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8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我“唉”的一声便瘫在了桌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六、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布置作文：见课本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猜猜他是谁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班有一位同学，他红润的脸上嵌着一双炯炯有神的眼睛，脸的正中有一个鼻子。他的头发黑黑的。一张开嘴巴，就是两排牙齿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是细节描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节描写是指抓住生活中的细微而又具体的典型情节，加以生动细致的描绘，它具体渗透在对人物、景物或场面描写之中。它是最生动、最有表现力的手法，是作者精心的设置和安排，不能随意取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二、明确定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甲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愚人节那天，英语课代表告诉我，老师叫我去她办公室背英语课文，我的心慌起来，但又怀疑是他人的愚弄，最后我还是去了。我走进了办公室，迎面正碰上英语老师的目光，里面充满了责备，我喊了一声“张老师”，张老师点了下头，只是“嗯”了一声，我不知如何是好。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三、感悟细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点评发言，提出修改方法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总结：如： 接到通知“我”有怎样的心理活动？“我”是怎么走进办公室的？英语老师的目光是怎么样的？看到那样的目光我又有什么心情？我是怎么“喊”老师的？老师点头的神态，“嗯”一声的语调如何？ “我”又有什么样的心理活动？这些都是可以展开描写的。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出示乙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愚人节那天，大家都有些心不在焉，惶惶欲动，我也在寻机下手，想要享受节日的感觉。第二节下课的时候，英语课代表告诉我，老师叫我去她办公室背英语课文，我还没有练习背诵呢。这下我的心悬了起来，心跳得像在打鼓。但又怀疑是他人的愚弄，此消息是真是假，我的大脑在紧张地判断。我站在座位上犹豫不决，心始终不能平静下来。最后我怀着一颗忐忑不安的心走进了办公室，迎面正碰上英语老师的目光，那里面没有了往日的慈祥可亲，而是充满了责备。于是一阵恐惧袭上心头。我只好勉强的笑一笑，喊了一声“张老师”，连声音都有几分颤抖了。张老师皱了皱眉，鼻孔里“嗯”了一声，脸朝向别处。我的心又是一阵紧缩：我犯了什么错吗？老师考我课文吗？ 我等待着……不知如何是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对比点评 ，大家交流讨论，进行评析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师小结评析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细节描写恰当：例如：英语老师皱了皱眉，于是我的内心袭上一阵恐惧，描写真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用词比较恰当。例如“忐忑不安”一词就写出了作者面对老师眼里的责备，当时那种不知道自己犯了什么错的七上八下的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对人物描写细腻。例如我经历此事的几处心理描写如写心悬起来，心跳像打鼓、心紧缩等很鲜活。又如写勉强一笑、颤抖的声音，既细腻又传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写好细节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师实验演示：“小银元落地”，学生认真观察，口头进行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比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个小银元落在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个小银元从桌上滚下来，落在地上叮叮当当地跳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结：这种逐步补充的方法，叫做步步追问法。写作时不能凡是都亲自演示一番，只能通过联想和想象，使其合情合理，我们称之为想象延伸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6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四、明晰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0T07:23:48Z</dcterms:created>
  <dc:creator>admin</dc:creator>
  <dc:description/>
  <dc:language>en-US</dc:language>
  <cp:lastModifiedBy>admin</cp:lastModifiedBy>
  <dcterms:modified xsi:type="dcterms:W3CDTF">2017-03-20T08:27:18Z</dcterms:modified>
  <cp:revision>23</cp:revision>
  <dc:subject/>
  <dc:title>第三单元写作：抓住细节</dc:title>
</cp:coreProperties>
</file>